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293633"/>
        <c:axId val="18143806"/>
      </c:barChart>
      <c:catAx>
        <c:axId val="302936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143806"/>
        <c:crosses val="autoZero"/>
        <c:auto val="1"/>
        <c:lblAlgn val="ctr"/>
        <c:lblOffset val="100"/>
        <c:noMultiLvlLbl val="0"/>
      </c:catAx>
      <c:valAx>
        <c:axId val="181438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936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CE61-63FD-49F2-8162-E0CC43E4D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4DC1-4FE9-49A8-A889-47479BB3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250A-A308-435D-8EE1-C095FABEB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20D2-88A5-4319-8506-0AABFE68B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25FA-6B8D-4E4F-B14E-1840E2FE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6A85-C2D7-47F2-B5D4-7A452B69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2052-CC49-4129-9CC0-2039040F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B78E-F4D0-432D-8AA4-879B04A9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579D-FB59-433C-8A0A-ADF9ED56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AA88-A339-470F-BB71-AD336714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7B23-5C45-4A95-A4BD-93D9997C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2603-85B6-41CA-BD84-6C3861D3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5B2E41-D326-40EE-9FF1-41D34C6FDF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